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7FE2E-4715-456C-929F-FA7BE6E7CA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AA8D5-5732-4E60-8CCB-85F72A512ED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AD2BA-E715-49A5-8E74-EC59E5B6BD3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25723-A9B5-452F-8FBE-60F3A60B2A7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00EAC-3489-4D99-9A33-0AAEA2B903C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2DA23-8BA7-4351-BDC0-0F5734C4486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6AFC5-66C2-47AC-9D4E-FEF1522DE12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CF967-53AF-4002-B025-E975B69EBD7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DC4DC-6719-442C-B9F3-276603BC6CC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20BA4-4325-4C08-A21C-956C06C748B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0E552-8F6E-4DD2-9340-8BD14A5A62C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23D3B-5E95-4E39-A0CA-D63E11ABE5C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36D3B-F7B6-4336-B93E-2E38BCD7EBE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2CD35-3889-4959-B62B-F3C6FBDAE3E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821F0-FA68-4B35-8511-866DEEC6F60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1AE12-9AA3-4AAB-A61C-7F2662C9818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9986B-9C07-4DA9-93E9-8111E3894FF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379D5-2641-4116-A38A-B48ECC3D56D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0E0F-F9EE-4D95-81AC-3D83AB6D7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ED85-B9A6-457A-988A-07F993397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532A-7F02-48D4-8173-9069366D1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C248-9FC4-4861-A1EE-325E4762F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5C03A-F360-4B8E-A675-863ED3C34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71133-0CF5-43AE-996D-621D9F3BD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B3916-4DE1-4E56-8D18-FC9F8F839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7C021-2314-4C85-A762-01FA25AAC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F4B03-892A-4335-B8E9-54A57595C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0EC87-F82C-429E-9139-3F94D6963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A3DF1-1D3D-4F0B-B8CD-93E8E59DE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55F1-C2B0-4A3B-9A5F-8283233CE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3CFFB-F663-443A-AF93-A21B0C20A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32C40-7181-4A2A-979D-CAEAA206B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7C3DF-7BB1-46DD-976A-2EE4D3B4A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2EB41-E8CB-4E61-8301-BF88585C8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3AFBE-CD61-4214-A296-E16E2A541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49A1-8298-4F08-AEB3-35D5464FF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2B53-408E-491D-A194-29167363F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C708-F503-4319-964F-D506B9303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0F09-8BD1-4354-A886-AF5A3A280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AEB8-E027-41AC-8276-479FF8999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04E3-91B5-44D4-B2DE-5141512A0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2CB9-CABB-4C60-A817-CBAC775B9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A92FF-592F-46F5-B62D-B09FC5040C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2D2A9-732F-4332-B572-9849A6C38A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The World Is Not Fl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Case Stu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ade 7, Kiley Middle Scho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KWL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we WANT to know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re does food go after we eat i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es food turn into little particles in your digestive system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y does food go into your cell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does the digestive system know what nutrients it need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ass Discussion and Student Respons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e confusion regarding solid waste and liquid waste elimin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fusion with where and how chemical and mechanical digestion occu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sorp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od travels from the stomach to the bod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liva in mouth vs. mucus lining in stom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did not mention the tongue as part of digestive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fusion with trachea and esophag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iscussion Continued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nection to Circulatory System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bel diagram confu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oss sections or enlarged sections difficult for them to conceptuali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fficulty describing the roles of simple structures like mouth, tongue, teeth in the digestive proces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ck of connection with absorption to cells, but they were able to tell me how cells get energ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hat Would You Do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0" name="Picture 5" descr="character_1"/>
          <p:cNvPicPr/>
          <p:nvPr/>
        </p:nvPicPr>
        <p:blipFill>
          <a:blip r:embed="rId1"/>
          <a:stretch/>
        </p:blipFill>
        <p:spPr>
          <a:xfrm>
            <a:off x="2286000" y="1981080"/>
            <a:ext cx="4952880" cy="425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eaching Strategi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WL cha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gage with Discovery Activity – How can you speed up digestion. Demo with sugar cub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ackground information from tex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plore- Color Code Digestive System Diagra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bel Diagra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plain in own words how each of the 11 focus structures aid in diges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plain what the digestive system does and the functions of each digestive orga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plore by creating Food Flight Post Cards – a trip through digestio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pport each others’ understanding with Food Flight Post Cards and presentati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hanges In Instructi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view of previously taught information as we were learning current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croscop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agram interpre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oss s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cells get their ener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fference between organs and organel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sson on surface area – vill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dition of Coloring and Labeling diagra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to label diagra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dition of Food Flight Post Car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Reflection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oss assumptions on my part regarding their understanding of terminology, for example: absorption, mechanical, surface area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need to find ways to encourage the students to make connections, for example: how cells get their energy, that chemical and mechanical digestion don’t just occur one time, etc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udents may not only have misconceptions about what is currently being taught, but they may also have misconceptions about previously taught materi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hat Is Next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articipant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ade 7 Kiley Middle School Students – A small class of hardworking average to low ability learners. They have a difficult time making connections, many have just recently come from a bilingual classroo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chele Partyka- I have taught science for approximately 18 years, most at the 7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grade leve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ay Saunders – Kiley Middle School I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Limiting Factor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79311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rt time for completing of Human Body Un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ience class is every other d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udents have limited background knowledge in sci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DIGESTIVE SYSTEM PROBE</a:t>
            </a:r>
            <a:r>
              <a:rPr b="1" lang="en-US" sz="1400" spc="-1" strike="noStrike">
                <a:solidFill>
                  <a:srgbClr val="ffffb7"/>
                </a:solidFill>
                <a:latin typeface="Arial Black"/>
              </a:rPr>
              <a:t> Elicit prior knowledge, conceptions, and understandings</a:t>
            </a:r>
            <a:endParaRPr b="1" lang="en-US" sz="1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ix friends were talking about the function of the digestive system. This is what they said that the main function i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a: “to release energy from food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nny: “to help us breathe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sha: to break food down into molecules that can be absorbed by cells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rriett: to break food down in the stomach into small pieces of food that can be used by the body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dd: to carry bits of food and nutrients to all the different parts of our body.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rtis: to store food so that we can get energy when we need it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How Probe Was Administered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nk – Pair – Sh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ch student wrote their own reasons why they agreed with the student they chos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ch student explained their reaso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ass discussion regarding their choices and the reason for their cho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hat do you think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ich student do you most agree with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lain your think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cribe your ideas about the main function of the digestive syste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AT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3 students were given the pre-tes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ult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dd – 11 vo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sha- 2 votes (one of the 2 had also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oted for Tod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rriett- 1 vo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Underlying Them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62120" y="2666880"/>
            <a:ext cx="800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sha knows what she is saying, it is the right answ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don’t like Sasha, so I am not choosing her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dd is right becaus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is how you get energy to stay alive and do stu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od needs to be in little bits so you don’t carry big food ar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helps your cells and body get nutri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thout nutrients we die and we are not health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KWL Chart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we Know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we digest it goes to our stomach and it goes down and then we poop it o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need nutrients in our bod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have to chew our food so it turns into molecu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ew so food can go in your cel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gives you nutri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separates what we need from what we don’t ne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breaks food down into molecules to be absorbed by cells (1 pers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8T13:47:58Z</dcterms:created>
  <dc:creator>Educational User</dc:creator>
  <dc:description/>
  <dc:language>en-US</dc:language>
  <cp:lastModifiedBy>scstaff</cp:lastModifiedBy>
  <dcterms:modified xsi:type="dcterms:W3CDTF">2010-01-22T20:45:00Z</dcterms:modified>
  <cp:revision>3</cp:revision>
  <dc:subject/>
  <dc:title>Slide 1</dc:title>
</cp:coreProperties>
</file>